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9CC2-B3EA-4CFE-8B5B-2AFE0C968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1A19-EADA-436C-BB43-03DD55AE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links to CWS website from CB home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D0B6FBC-18A5-4284-8546-8769A8726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11 and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jobs and job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or 4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9’s: If taking Civics/Careers in summer school,  put these courses into grade 11 (will remove later) and this will allow you to put in another elective in grade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42D-7A82-480A-99AC-C7773693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9DB-305E-4370-8424-E6189BCF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78B-FD5F-40D6-B785-75C948A9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0D6-B43E-423D-B111-B0588000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682D-F263-4B88-A7F3-636E9808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7A60-77AC-4109-B347-61C51E3E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F23-4E0E-4DE1-BF97-341DAD44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4900-C878-459E-9455-5AD7503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FFD0-309D-4AAE-94ED-B8149570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B120-3A5F-4CD2-A17F-365771B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F6F-E99B-45D5-8B6A-F639D40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EF1-53D1-4AB8-AE87-D5762CF9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FD09-7559-4246-AA84-733FDB92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59B8-9063-4A11-B6CB-930BB1B2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C919-5943-419E-B9E2-7C58C9F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89D4-4A8A-4126-829A-D8FA8BCB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73D0-C0F5-4C04-B325-0A8197A6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91B-6CE3-42E7-9F2F-8CAD7E13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867-6B0C-4327-B220-2B50DE9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24B-5315-4FCC-81A9-9B2CD5A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D11-FF14-40DF-B52F-C57FA53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98A-5AA6-4115-9669-5AF625B2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324-2491-4839-B241-BFFCF15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C99-08E4-4282-9C39-F4DCAF3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069A-A87F-404A-B173-D5038922C0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BABA-8438-4751-B369-613D43AC5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ntariocolleges.ca/" TargetMode="External"/><Relationship Id="rId2" Type="http://schemas.openxmlformats.org/officeDocument/2006/relationships/hyperlink" Target="http://www.electronicinfo.ca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lonelby.com/teachers/canadianandworldstud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hyperlink" Target="http://ibcb.ca/ibcourseguide20142015.pdf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BSc, BCom, BA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SD, ENG4U and specific program requi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3886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Colle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BF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P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0880" y="1600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Essent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3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4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4920" y="3886200"/>
          <a:ext cx="8534160" cy="1886040"/>
        </p:xfrm>
        <a:graphic>
          <a:graphicData uri="http://schemas.openxmlformats.org/drawingml/2006/table">
            <a:tbl>
              <a:tblPr/>
              <a:tblGrid>
                <a:gridCol w="170640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– University (Specific Program Require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28600" y="1600200"/>
          <a:ext cx="8686440" cy="1904760"/>
        </p:xfrm>
        <a:graphic>
          <a:graphicData uri="http://schemas.openxmlformats.org/drawingml/2006/table">
            <a:tbl>
              <a:tblPr/>
              <a:tblGrid>
                <a:gridCol w="1736640"/>
                <a:gridCol w="1737360"/>
                <a:gridCol w="1738440"/>
                <a:gridCol w="1737360"/>
                <a:gridCol w="1736640"/>
              </a:tblGrid>
              <a:tr h="515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F3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ience Op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1905120"/>
          <a:ext cx="8458200" cy="16938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28600" y="4267080"/>
          <a:ext cx="8534520" cy="255132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483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S4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.  PrerequisiteSNC2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nadian World Studies and Human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D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, Politics and 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W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P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ma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P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T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BV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B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E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859040"/>
                <a:gridCol w="152388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P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814400"/>
                <a:gridCol w="16002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ama and Musical 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A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387440"/>
                <a:gridCol w="2133720"/>
                <a:gridCol w="1600200"/>
              </a:tblGrid>
              <a:tr h="49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1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2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3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J3M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vocal jazz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4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371600"/>
          <a:ext cx="8458200" cy="18050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chnolog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80880" y="4114800"/>
          <a:ext cx="8458200" cy="2451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7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disciplinary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S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C4U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Media:  A Critical Approach to 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80880" y="32004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4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ersion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Phys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4920" y="1523880"/>
          <a:ext cx="8458200" cy="2465640"/>
        </p:xfrm>
        <a:graphic>
          <a:graphicData uri="http://schemas.openxmlformats.org/drawingml/2006/table">
            <a:tbl>
              <a:tblPr/>
              <a:tblGrid>
                <a:gridCol w="1690560"/>
                <a:gridCol w="1967040"/>
                <a:gridCol w="1600200"/>
                <a:gridCol w="1509480"/>
                <a:gridCol w="1690920"/>
              </a:tblGrid>
              <a:tr h="402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1OP/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2O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2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4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uidance and Career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152388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000"/>
                <a:gridCol w="1690920"/>
              </a:tblGrid>
              <a:tr h="414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er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1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2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C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WL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N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usiness and Computer Stud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M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H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358128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-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29000" cy="2400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486240" cy="240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419640" cy="243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"/>
          <p:cNvPicPr/>
          <p:nvPr/>
        </p:nvPicPr>
        <p:blipFill>
          <a:blip r:embed="rId4"/>
          <a:stretch/>
        </p:blipFill>
        <p:spPr>
          <a:xfrm>
            <a:off x="4800600" y="3924360"/>
            <a:ext cx="349560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4382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Rectangle 4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209680"/>
            <a:ext cx="6172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-76320" y="0"/>
          <a:ext cx="944892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44892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ibcb.ca/ibcourseguide20142015.pd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 = Grade 10 English Acade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F = Grade 10 Science Academic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FM2P = Grade 10 Math Appl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 = Grade 11 Biology 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40894</cp:lastModifiedBy>
  <dcterms:modified xsi:type="dcterms:W3CDTF">2016-02-09T13:48:28Z</dcterms:modified>
  <cp:revision>92</cp:revision>
  <dc:subject/>
  <dc:title>Option sheets 2014-2015</dc:title>
</cp:coreProperties>
</file>